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laser.wav" ContentType="audio/x-wav"/>
  <Override PartName="/ppt/media/image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explode.wav" ContentType="audio/x-wav"/>
  <Override PartName="/ppt/media/image1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E09-0626-4F29-9B83-FE839B8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7B1-559A-40AA-9E70-403F048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073-7A10-44DF-A36A-BB0957F2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869-8A95-4CA9-AD75-839AB734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55C7-7065-41AB-A5D6-F80846E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DBFD-AB3C-4CE3-B9B4-AFAC788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5BCC-82C0-4B84-85D6-027FA0F5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E6BC-DC45-4807-8F4E-B85D5A9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6049-F931-4C62-B4F7-13114A77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EB59-58E3-4F42-A627-6268B3E2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E9C6-4CBA-4100-A76E-52F93D8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99C-2D9F-4381-A7B4-6EA4A4A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BF2F-2C4F-4284-B482-A6E9179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D6AC-1195-42FB-8364-99AEF53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F45-4472-4EF9-A143-B249CDA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78D-214A-4BF3-A91C-D805E827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1E91-4E7D-466E-9B1E-22BCDF2C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FD1-825D-49F2-9A47-F60C1AC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86F-2F23-473C-AA28-BBD3419E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032-5A03-44B0-BE5E-A6DA3646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6AF-D1A6-4963-B260-5296838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A4F-419A-423A-BA15-B4183BE0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A49-5446-4EA6-B97B-27165937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B26-18A5-45CD-A155-F8552CC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FC89-3B23-40B1-98DA-9B09794280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2B3E-7F86-472B-8CBC-A621B0B817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7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5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438280" y="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6T00:35:28Z</dcterms:modified>
  <cp:revision>15</cp:revision>
  <dc:subject/>
  <dc:title>Present Day Russia</dc:title>
</cp:coreProperties>
</file>